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7F3-12B1-4714-BF9A-C108F689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9B-8163-48F3-B36F-DF681FEA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495-F887-40A8-92E8-E916E722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0BA-DBA1-45EF-BC0B-36A844D9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93FF-2B3A-4EE8-B325-0571D65E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DC39-CC0C-4981-B8BD-5E0D854E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3BA4-3765-4A24-9F0A-ACB9CE1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BBBB-F89C-4ACD-82A6-14E8B93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9DE-BE7B-4F73-9DDD-58ACB0DA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C1D5-06AB-4E3A-843F-420F70D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7FE1-6A5F-4A84-9A6B-6C5C59B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5EF-06F8-4024-A2A1-623B06E4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A9E-D80C-46FD-89AA-CA87131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7E8-000A-4551-AAF7-9502B27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2B66-76FF-4878-AB25-222BA82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9BE8-8527-4BEF-8CE8-5D07271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06A3-3699-4CE2-B1E9-7F27F7CC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ED6-11A1-4E9B-8415-DBFDF49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0C1-4007-4FDE-81F1-252A50F0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A1A-32ED-433D-B0A8-1367A97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29F-1A6B-4D0F-A665-2EA081D1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2E4-80CD-4C49-8CEA-9C9D828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A5F-B48F-4693-B117-24A9851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EAB-A7AE-42B8-91D6-4B4E9EB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912D-D12C-4E92-8515-B19A66E5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934-0F47-40BE-8230-B9E83499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8759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nfed term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-27000"/>
            <a:ext cx="755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ydym wedi darganfod y rheol (neu nfed term) sy’n cynhyrchu dilyniant o rhif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276640"/>
            <a:ext cx="7559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e   5, 7, 9, 11,……………….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 rheol yw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n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hai dilyniannau gwahanol………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942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4, 9, 16, 25, 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1828800"/>
            <a:ext cx="1152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278136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, 6, 11, 18, 27, 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154560" y="2781360"/>
            <a:ext cx="158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377208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, 8, 18, 32, 50, …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6154560" y="3772080"/>
            <a:ext cx="115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154560" y="4708440"/>
            <a:ext cx="158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70844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7, 17, 31, 49, …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410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 yma rydw i am ddangos y rheol ac mae rhaid i chi ddarganfod y dilyni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20500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Rheol yw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 + 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tri term cyntaf?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645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cyntaf n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282920" y="3645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1) + 5 = 2 + 5 =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2069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r ail derm   n =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420696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2) + 5 = 4 + 5 =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4797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trydydd term n =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797360"/>
            <a:ext cx="56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3) + 5 = 6 + 5 =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55897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 dilyniant yw 7,9,11,…………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ganfyddwch tri term cyntaf y dilyniannau canlyno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n + 4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n – 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n +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219852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17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7, 10, 13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14560" y="26114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2, 5, 12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0430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2, 23, 34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4765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, 4, 9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39085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2, 1, 6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2:18:36Z</dcterms:created>
  <dc:creator>Betsan Wyn Thomas</dc:creator>
  <dc:description/>
  <dc:language>en-US</dc:language>
  <cp:lastModifiedBy>Betsan Wyn Thomas</cp:lastModifiedBy>
  <dcterms:modified xsi:type="dcterms:W3CDTF">2007-02-11T21:38:33Z</dcterms:modified>
  <cp:revision>2</cp:revision>
  <dc:subject/>
  <dc:title>nfed te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